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dt" idx="3"/>
          </p:nvPr>
        </p:nvSpPr>
        <p:spPr>
          <a:xfrm>
            <a:off x="3884400" y="-360"/>
            <a:ext cx="295884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59400" cy="3416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93109F-7A0A-4FA7-9DBD-48D35FE5BB8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A7F71E-AE92-4771-A42E-8CE5D476D07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8561AA-272F-44D0-94BA-28627527444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CE84D3-8473-4EC9-BD4F-C678FAD3D2D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814C54-E8EB-453D-B62C-7DAF7D1CD54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427C7-8AF8-4B1F-9A5E-01977EDF17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AE09C-BE19-45F2-BD81-C46709F1A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40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7379F-4F5D-42F3-8511-B11E30637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32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344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32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344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10C60-2AB6-447A-A0F9-72490A1891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DBBEF-51C0-4199-B773-3833CFFD4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BADDD-6B5A-4481-8580-4F0EA9326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DB309-214E-41D0-9C70-12E8A621F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A8FE5-EDFF-4C3B-9D14-9244BD269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70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EFC3E-A09D-4836-8ECF-BE66B4B8D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93913-A266-4E7E-A7EB-B494B6236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40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C7079-801E-4F7D-8E14-2FE9E17B9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526EC-8BD2-4AE1-BA9E-F5E23A568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3280"/>
            <a:ext cx="21207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211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3C7BB19-5A59-4F69-8C8A-51287B70A9F0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dinámica de la Tier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1332000" y="2666880"/>
            <a:ext cx="619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8200"/>
                </a:solidFill>
                <a:latin typeface="Arial"/>
              </a:rPr>
              <a:t>CÓMO SE ORIGINAN </a:t>
            </a:r>
            <a:br>
              <a:rPr sz="2800"/>
            </a:br>
            <a:r>
              <a:rPr b="1" lang="es-ES" sz="2800" spc="-1" strike="noStrike">
                <a:solidFill>
                  <a:srgbClr val="008200"/>
                </a:solidFill>
                <a:latin typeface="Arial"/>
              </a:rPr>
              <a:t>LOS VOLCA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CuadroTexto 1"/>
          <p:cNvSpPr/>
          <p:nvPr/>
        </p:nvSpPr>
        <p:spPr>
          <a:xfrm>
            <a:off x="9288360" y="7747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"/>
          <p:cNvPicPr/>
          <p:nvPr/>
        </p:nvPicPr>
        <p:blipFill>
          <a:blip r:embed="rId1"/>
          <a:stretch/>
        </p:blipFill>
        <p:spPr>
          <a:xfrm>
            <a:off x="0" y="1817640"/>
            <a:ext cx="8496360" cy="50403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2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2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Cómo se originan los volca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611280" y="981000"/>
            <a:ext cx="31687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Volcanes en bordes convergentes: 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a placa que penetra en el manto 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e puede fundir parcialmente. 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os magmas así formados 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scienden hasta la otra placa, 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ormando volcane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Line 9"/>
          <p:cNvSpPr/>
          <p:nvPr/>
        </p:nvSpPr>
        <p:spPr>
          <a:xfrm>
            <a:off x="2050920" y="2421000"/>
            <a:ext cx="433440" cy="26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3419640" y="1413000"/>
            <a:ext cx="31683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Volcanes en bordes divergentes: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ntre ambas placas se abren fisuras que comunican el manto con 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a superficie. En dichas fisuras 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as rocas del manto se funden y ascienden, formando volcane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Line 9"/>
          <p:cNvSpPr/>
          <p:nvPr/>
        </p:nvSpPr>
        <p:spPr>
          <a:xfrm>
            <a:off x="4500720" y="2781360"/>
            <a:ext cx="353880" cy="2171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6694560" y="1268280"/>
            <a:ext cx="244944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Volcanes  en zonas de intraplaca: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lgunos volcanes aparecen en zonas alejadas de los bordes de 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as placas (zonas de intraplaca). Esto se debe 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l ascenso de rocas muy calientes del manto que penetran por grietas de 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a litosfer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9"/>
          <p:cNvSpPr/>
          <p:nvPr/>
        </p:nvSpPr>
        <p:spPr>
          <a:xfrm flipH="1">
            <a:off x="6582960" y="3573360"/>
            <a:ext cx="1157400" cy="188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1:47:55Z</dcterms:created>
  <dc:creator>Beatriz</dc:creator>
  <dc:description/>
  <dc:language>en-US</dc:language>
  <cp:lastModifiedBy>Anaya</cp:lastModifiedBy>
  <dcterms:modified xsi:type="dcterms:W3CDTF">2011-09-05T10:24:11Z</dcterms:modified>
  <cp:revision>45</cp:revision>
  <dc:subject/>
  <dc:title>Diapositiva 1</dc:title>
</cp:coreProperties>
</file>